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4EB-9790-4856-AC22-0EB782CA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FF0-0F88-4098-A202-131E7E0C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193-79A0-4D6C-BC8C-B3C0910C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CB1-55C6-4C66-943D-910A380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A92-5826-48B7-B763-C8019A8C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EE0-4C1C-43CA-B949-1735EB9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748-D70B-4894-AAA4-B63188C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915-DBE7-4FAF-A307-9BD8923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B4-A75A-4CCA-83D5-04AC2EE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021-815B-466B-B740-627C495C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435-85AE-4F8C-BD07-32F5323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34D-CC68-4019-B473-0180A2E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4BC-74DA-441C-979D-F722592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809-E504-47AC-AD05-7E6CD50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9615-7306-47B4-A397-A6B6B266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estas tu m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d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mama es muy cansada ahor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ein, por que?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a esta b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3886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58Z</dcterms:modified>
  <cp:revision>106</cp:revision>
  <dc:subject/>
  <dc:title>Profile</dc:title>
</cp:coreProperties>
</file>